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9DE7-10AC-40DD-901A-3FAE03C00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acher </a:t>
            </a:r>
            <a:r>
              <a:rPr b="0" lang="en-GB" sz="1200" spc="-1" strike="noStrike">
                <a:solidFill>
                  <a:srgbClr val="ff0000"/>
                </a:solidFill>
                <a:latin typeface="Times New Roman"/>
              </a:rPr>
              <a:t>will show you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ne of the greeting pi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have to repeat after the teacher by saying </a:t>
            </a:r>
            <a:r>
              <a:rPr b="0" lang="en-GB" sz="1200" spc="-1" strike="noStrike">
                <a:solidFill>
                  <a:srgbClr val="ff0000"/>
                </a:solidFill>
                <a:latin typeface="Times New Roman"/>
              </a:rPr>
              <a:t>the correct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eting although the teacher may say a wrong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acher may say a correct one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w, let’s start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ヘッダー プレースホルダー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スライド番号プレースホルダー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029B-10E5-43F1-90F4-A619E7B3B8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ヘッダー プレースホルダー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スライド番号プレースホルダー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AA02-C659-4D44-8ECE-E701A14F54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ヘッダー プレースホルダー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スライド番号プレースホルダー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9552-932A-4BCF-AA4A-DFBA87DDB5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ヘッダー プレースホルダー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スライド番号プレースホルダー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D986-7BD8-4B37-8253-097892875D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ヘッダー プレースホルダー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スライド番号プレースホルダー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B687-E911-498E-8986-8A3B1F4B17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ヘッダー プレースホルダー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スライド番号プレースホルダー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7CF6-5942-4F71-87E9-B3466EA777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ヘッダー プレースホルダー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スライド番号プレースホルダー 4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D566-E0FF-4B23-9DA1-29B0AD68CE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A967-2793-4014-A3CD-B276F438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C01-5079-4D6C-BA76-9AF86CCB1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19C1-8FA3-4065-8097-28156B01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B1D6-8181-4C6F-84E3-9B3B9401E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103-A440-47E2-A1EC-4E3B4884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591-D1C5-4CD6-9C85-3AA79893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FAA-CD48-49DF-A07D-3FEDD9255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8D8-C073-4079-A29F-CB880CC8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14D2-F369-489C-A48B-E8813D813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E784-5C64-4E3A-A70B-5F5ABFE8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33A-E0E3-4318-A9FB-E21AA19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F4B5-9302-4E5A-AA30-4F1BCB28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9AE4-33EB-4954-809A-0307BBD78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Ga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Beat the Teac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866880" y="2038320"/>
            <a:ext cx="7410240" cy="48196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"/>
          <p:cNvPicPr/>
          <p:nvPr/>
        </p:nvPicPr>
        <p:blipFill>
          <a:blip r:embed="rId1"/>
          <a:stretch/>
        </p:blipFill>
        <p:spPr>
          <a:xfrm>
            <a:off x="1297080" y="2205000"/>
            <a:ext cx="663876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4152960" y="4076640"/>
            <a:ext cx="1512720" cy="2443320"/>
          </a:xfrm>
          <a:prstGeom prst="rect">
            <a:avLst/>
          </a:prstGeom>
          <a:ln w="0">
            <a:noFill/>
          </a:ln>
        </p:spPr>
      </p:pic>
      <p:sp>
        <p:nvSpPr>
          <p:cNvPr id="54" name="テキスト ボックス 3"/>
          <p:cNvSpPr/>
          <p:nvPr/>
        </p:nvSpPr>
        <p:spPr>
          <a:xfrm>
            <a:off x="5665680" y="6043680"/>
            <a:ext cx="30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acher, Ms Tana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直線矢印コネクタ 6"/>
          <p:cNvCxnSpPr/>
          <p:nvPr/>
        </p:nvCxnSpPr>
        <p:spPr>
          <a:xfrm flipH="1" flipV="1">
            <a:off x="5292360" y="5660280"/>
            <a:ext cx="373680" cy="57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853920" y="1909800"/>
            <a:ext cx="7153560" cy="495288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987480" y="2019240"/>
            <a:ext cx="7172280" cy="48387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https://minnanokyozai.jp/kyozai/material/IUM00127/ium00127.gif"/>
          <p:cNvPicPr/>
          <p:nvPr/>
        </p:nvPicPr>
        <p:blipFill>
          <a:blip r:embed="rId1"/>
          <a:stretch/>
        </p:blipFill>
        <p:spPr>
          <a:xfrm>
            <a:off x="2050920" y="2421000"/>
            <a:ext cx="5359680" cy="38862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4" descr="ium00444"/>
          <p:cNvPicPr/>
          <p:nvPr/>
        </p:nvPicPr>
        <p:blipFill>
          <a:blip r:embed="rId1"/>
          <a:stretch/>
        </p:blipFill>
        <p:spPr>
          <a:xfrm>
            <a:off x="900000" y="2060640"/>
            <a:ext cx="5759640" cy="4176720"/>
          </a:xfrm>
          <a:prstGeom prst="rect">
            <a:avLst/>
          </a:prstGeom>
          <a:ln w="0">
            <a:noFill/>
          </a:ln>
        </p:spPr>
      </p:pic>
      <p:sp>
        <p:nvSpPr>
          <p:cNvPr id="64" name="WordArt 35"/>
          <p:cNvSpPr txBox="1"/>
          <p:nvPr/>
        </p:nvSpPr>
        <p:spPr>
          <a:xfrm>
            <a:off x="6227640" y="3141720"/>
            <a:ext cx="198144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entury"/>
              </a:rPr>
              <a:t>Thank you!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entury"/>
              <a:ea typeface="Century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195640" y="2416320"/>
            <a:ext cx="446400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6:26:01Z</dcterms:created>
  <dc:creator>h.tanaka</dc:creator>
  <dc:description/>
  <dc:language>en-US</dc:language>
  <cp:lastModifiedBy>Hiroko Tanaka</cp:lastModifiedBy>
  <dcterms:modified xsi:type="dcterms:W3CDTF">2013-09-12T15:39:00Z</dcterms:modified>
  <cp:revision>61</cp:revision>
  <dc:subject/>
  <dc:title>Greeting</dc:title>
</cp:coreProperties>
</file>